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E2B-3FE8-4766-ABBC-3899C331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057-4D2C-4EF6-89F7-1C1E042A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507-6B7B-4A9E-94B2-6F7E160C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1EE-DB66-473E-8FC4-38443C79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1B0-9DC5-4A4E-A855-1ED4F4FC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00A-38CD-4B9C-91FA-5432A88B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1BC-875F-4A49-95B9-E82A4CDA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3D9-D46B-42E8-88DD-D1C5F5B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F7F-19B4-4661-B9AA-3C3A81D5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CB6-7A31-4F34-9832-00B9C8B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FE3-244F-4473-B25F-C594C7F4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188-34EE-4744-9290-A36E2D71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161C-1DAC-4388-B93E-D8F18F52E4D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uadroTexto"/>
          <p:cNvSpPr/>
          <p:nvPr/>
        </p:nvSpPr>
        <p:spPr>
          <a:xfrm>
            <a:off x="2714760" y="1214280"/>
            <a:ext cx="36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Showcard Gothic"/>
              </a:rPr>
              <a:t>ECOCIT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9 CuadroTexto"/>
          <p:cNvSpPr/>
          <p:nvPr/>
        </p:nvSpPr>
        <p:spPr>
          <a:xfrm>
            <a:off x="7143840" y="5643720"/>
            <a:ext cx="200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otlight MT Light"/>
              </a:rPr>
              <a:t>Rostin Riv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otlight MT Light"/>
              </a:rPr>
              <a:t>Carla Bor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otlight MT Light"/>
              </a:rPr>
              <a:t>Yunuwy V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 Imagen" descr="GermanyMap.gif"/>
          <p:cNvPicPr/>
          <p:nvPr/>
        </p:nvPicPr>
        <p:blipFill>
          <a:blip r:embed="rId1"/>
          <a:stretch/>
        </p:blipFill>
        <p:spPr>
          <a:xfrm>
            <a:off x="0" y="0"/>
            <a:ext cx="6070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4 CuadroTexto"/>
          <p:cNvSpPr/>
          <p:nvPr/>
        </p:nvSpPr>
        <p:spPr>
          <a:xfrm>
            <a:off x="6429240" y="2571840"/>
            <a:ext cx="221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otlight MT Light"/>
              </a:rPr>
              <a:t>Hambur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otlight MT Light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map.jpg"/>
          <p:cNvPicPr/>
          <p:nvPr/>
        </p:nvPicPr>
        <p:blipFill>
          <a:blip r:embed="rId1"/>
          <a:stretch/>
        </p:blipFill>
        <p:spPr>
          <a:xfrm>
            <a:off x="642960" y="0"/>
            <a:ext cx="788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ecocity_overview.pn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751360"/>
          </a:xfrm>
          <a:prstGeom prst="rect">
            <a:avLst/>
          </a:prstGeom>
          <a:ln w="0">
            <a:noFill/>
          </a:ln>
        </p:spPr>
      </p:pic>
      <p:sp>
        <p:nvSpPr>
          <p:cNvPr id="47" name="3 CuadroTexto"/>
          <p:cNvSpPr/>
          <p:nvPr/>
        </p:nvSpPr>
        <p:spPr>
          <a:xfrm>
            <a:off x="1714680" y="607212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ootlight MT Light"/>
              </a:rPr>
              <a:t>Ecocity – TEC architecture and AR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Imagen" descr="untitled.bmp"/>
          <p:cNvPicPr/>
          <p:nvPr/>
        </p:nvPicPr>
        <p:blipFill>
          <a:blip r:embed="rId1"/>
          <a:stretch/>
        </p:blipFill>
        <p:spPr>
          <a:xfrm>
            <a:off x="0" y="714240"/>
            <a:ext cx="90694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ecocity-lead01.jpg"/>
          <p:cNvPicPr/>
          <p:nvPr/>
        </p:nvPicPr>
        <p:blipFill>
          <a:blip r:embed="rId1"/>
          <a:stretch/>
        </p:blipFill>
        <p:spPr>
          <a:xfrm>
            <a:off x="-9360" y="357120"/>
            <a:ext cx="915336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ecocity-ed01.jpg"/>
          <p:cNvPicPr/>
          <p:nvPr/>
        </p:nvPicPr>
        <p:blipFill>
          <a:blip r:embed="rId1"/>
          <a:stretch/>
        </p:blipFill>
        <p:spPr>
          <a:xfrm>
            <a:off x="0" y="0"/>
            <a:ext cx="5281560" cy="686448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5286240" y="1643040"/>
            <a:ext cx="3857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Wind Turb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Green roo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Sustainable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23:25:37Z</dcterms:created>
  <dc:creator>Asrock</dc:creator>
  <dc:description/>
  <dc:language>en-US</dc:language>
  <cp:lastModifiedBy>Asrock</cp:lastModifiedBy>
  <dcterms:modified xsi:type="dcterms:W3CDTF">2009-11-26T00:15:46Z</dcterms:modified>
  <cp:revision>5</cp:revision>
  <dc:subject/>
  <dc:title>Diapositiva 1</dc:title>
</cp:coreProperties>
</file>